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6070-07D8-4BBF-BCEF-60CCC728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36C5-FA64-411E-ADC0-AB92DB13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BE53-5412-4775-A3E3-AEF7EA48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42DC-AAD1-4557-B985-AF351A72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AE05-B9F1-404D-AF47-741104D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46D8-2FB5-4E34-8055-EFA92D2C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0CF-A1D2-4D6A-AB2F-F62FE549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15DA-A42A-471F-9387-4D0FBE26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3377-E589-45E9-90E8-A96435EA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24F2-C066-4F71-AF44-0C5B95E1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CCB-636C-45F5-8859-6549E97D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F941-A085-4A0D-A71E-34B0C1E2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66C5-CBC6-4A1A-8291-4E1855721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181160"/>
            <a:ext cx="900000" cy="61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n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876240"/>
            <a:ext cx="16002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amp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2971800"/>
            <a:ext cx="11430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2666880"/>
            <a:ext cx="16002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104920"/>
            <a:ext cx="60948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/>
          <p:nvPr/>
        </p:nvCxnSpPr>
        <p:spPr>
          <a:xfrm>
            <a:off x="294840" y="2809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>
            <a:off x="457200" y="3962520"/>
            <a:ext cx="1066680" cy="1065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10320" y="2133720"/>
            <a:ext cx="53352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2019240"/>
            <a:ext cx="11430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1181160"/>
            <a:ext cx="900000" cy="61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4" idx="3"/>
            <a:endCxn id="48" idx="1"/>
          </p:cNvCxnSpPr>
          <p:nvPr/>
        </p:nvCxnSpPr>
        <p:spPr>
          <a:xfrm flipV="1">
            <a:off x="5943600" y="2362320"/>
            <a:ext cx="667080" cy="9525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8" idx="3"/>
            <a:endCxn id="49" idx="1"/>
          </p:cNvCxnSpPr>
          <p:nvPr/>
        </p:nvCxnSpPr>
        <p:spPr>
          <a:xfrm flipV="1">
            <a:off x="7143840" y="2361960"/>
            <a:ext cx="324000" cy="720"/>
          </a:xfrm>
          <a:prstGeom prst="bentConnector3">
            <a:avLst>
              <a:gd name="adj1" fmla="val 4994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3" idx="3"/>
            <a:endCxn id="44" idx="1"/>
          </p:cNvCxnSpPr>
          <p:nvPr/>
        </p:nvCxnSpPr>
        <p:spPr>
          <a:xfrm>
            <a:off x="3276720" y="3314520"/>
            <a:ext cx="106704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54" name=""/>
          <p:cNvGrpSpPr/>
          <p:nvPr/>
        </p:nvGrpSpPr>
        <p:grpSpPr>
          <a:xfrm>
            <a:off x="523800" y="1371600"/>
            <a:ext cx="456480" cy="990360"/>
            <a:chOff x="523800" y="1371600"/>
            <a:chExt cx="456480" cy="990360"/>
          </a:xfrm>
        </p:grpSpPr>
        <p:sp>
          <p:nvSpPr>
            <p:cNvPr id="55" name=""/>
            <p:cNvSpPr/>
            <p:nvPr/>
          </p:nvSpPr>
          <p:spPr>
            <a:xfrm flipH="1" flipV="1">
              <a:off x="523800" y="137160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752040" y="137160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2040" y="1371600"/>
              <a:ext cx="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678200" y="4437000"/>
            <a:ext cx="9144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4" idx="2"/>
          </p:cNvCxnSpPr>
          <p:nvPr/>
        </p:nvCxnSpPr>
        <p:spPr>
          <a:xfrm flipV="1">
            <a:off x="5135400" y="3962520"/>
            <a:ext cx="8280" cy="47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7" idx="0"/>
            <a:endCxn id="45" idx="2"/>
          </p:cNvCxnSpPr>
          <p:nvPr/>
        </p:nvCxnSpPr>
        <p:spPr>
          <a:xfrm>
            <a:off x="752040" y="2361240"/>
            <a:ext cx="391320" cy="1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5" idx="4"/>
            <a:endCxn id="43" idx="1"/>
          </p:cNvCxnSpPr>
          <p:nvPr/>
        </p:nvCxnSpPr>
        <p:spPr>
          <a:xfrm flipH="1" rot="16200000">
            <a:off x="1452600" y="2633400"/>
            <a:ext cx="676440" cy="686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0"/>
            <a:endCxn id="41" idx="1"/>
          </p:cNvCxnSpPr>
          <p:nvPr/>
        </p:nvCxnSpPr>
        <p:spPr>
          <a:xfrm flipH="1" flipV="1" rot="5400000">
            <a:off x="1329120" y="1605240"/>
            <a:ext cx="618480" cy="381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4" idx="3"/>
            <a:endCxn id="43" idx="2"/>
          </p:cNvCxnSpPr>
          <p:nvPr/>
        </p:nvCxnSpPr>
        <p:spPr>
          <a:xfrm flipV="1">
            <a:off x="2590920" y="3657600"/>
            <a:ext cx="114480" cy="831960"/>
          </a:xfrm>
          <a:prstGeom prst="bentConnector4">
            <a:avLst>
              <a:gd name="adj1" fmla="val 206940"/>
              <a:gd name="adj2" fmla="val 5917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2" idx="2"/>
            <a:endCxn id="44" idx="0"/>
          </p:cNvCxnSpPr>
          <p:nvPr/>
        </p:nvCxnSpPr>
        <p:spPr>
          <a:xfrm rot="16200000">
            <a:off x="4857840" y="2381040"/>
            <a:ext cx="57168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2" idx="3"/>
            <a:endCxn id="48" idx="1"/>
          </p:cNvCxnSpPr>
          <p:nvPr/>
        </p:nvCxnSpPr>
        <p:spPr>
          <a:xfrm>
            <a:off x="5943600" y="1485720"/>
            <a:ext cx="667080" cy="8769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105520" y="2209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772040" y="3201840"/>
            <a:ext cx="539640" cy="226080"/>
            <a:chOff x="7772040" y="3201840"/>
            <a:chExt cx="539640" cy="226080"/>
          </a:xfrm>
        </p:grpSpPr>
        <p:sp>
          <p:nvSpPr>
            <p:cNvPr id="69" name=""/>
            <p:cNvSpPr/>
            <p:nvPr/>
          </p:nvSpPr>
          <p:spPr>
            <a:xfrm flipH="1" flipV="1">
              <a:off x="7772040" y="3424320"/>
              <a:ext cx="5396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7926480" y="3274200"/>
              <a:ext cx="23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779600" y="3272040"/>
              <a:ext cx="15300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55440" y="3274560"/>
              <a:ext cx="15156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7891560" y="3318840"/>
              <a:ext cx="304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040240" y="3201840"/>
              <a:ext cx="7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" name=""/>
          <p:cNvCxnSpPr>
            <a:stCxn id="49" idx="2"/>
          </p:cNvCxnSpPr>
          <p:nvPr/>
        </p:nvCxnSpPr>
        <p:spPr>
          <a:xfrm>
            <a:off x="8038800" y="2705040"/>
            <a:ext cx="2520" cy="497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5105520" y="86688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66688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34000" y="21337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VM-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1486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019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80" y="419112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Weg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mpulsg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4336920"/>
            <a:ext cx="8384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ulste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47" idx="6"/>
            <a:endCxn id="64" idx="1"/>
          </p:cNvCxnSpPr>
          <p:nvPr/>
        </p:nvCxnSpPr>
        <p:spPr>
          <a:xfrm flipV="1">
            <a:off x="1523880" y="4489200"/>
            <a:ext cx="228960" cy="6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1752480" y="5715000"/>
            <a:ext cx="42674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fbau Messbus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41" idx="3"/>
            <a:endCxn id="50" idx="1"/>
          </p:cNvCxnSpPr>
          <p:nvPr/>
        </p:nvCxnSpPr>
        <p:spPr>
          <a:xfrm>
            <a:off x="2728800" y="1486800"/>
            <a:ext cx="31968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50" idx="3"/>
            <a:endCxn id="42" idx="1"/>
          </p:cNvCxnSpPr>
          <p:nvPr/>
        </p:nvCxnSpPr>
        <p:spPr>
          <a:xfrm flipV="1">
            <a:off x="3948120" y="1485720"/>
            <a:ext cx="395640" cy="1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571840" y="36482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. 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90680" y="1200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200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5160" y="19051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,6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6400" y="304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1114560"/>
            <a:ext cx="83808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n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800280"/>
            <a:ext cx="160020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pannungsversorg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c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305160"/>
            <a:ext cx="1150920" cy="6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000240"/>
            <a:ext cx="16002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238480"/>
            <a:ext cx="60948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294840" y="2809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457200" y="3962520"/>
            <a:ext cx="1066680" cy="1065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266920"/>
            <a:ext cx="53352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2152800"/>
            <a:ext cx="11430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5" idx="3"/>
            <a:endCxn id="99" idx="1"/>
          </p:cNvCxnSpPr>
          <p:nvPr/>
        </p:nvCxnSpPr>
        <p:spPr>
          <a:xfrm flipV="1">
            <a:off x="5952600" y="2495160"/>
            <a:ext cx="591120" cy="1153440"/>
          </a:xfrm>
          <a:prstGeom prst="bentConnector3">
            <a:avLst>
              <a:gd name="adj1" fmla="val 4996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4" idx="3"/>
            <a:endCxn id="95" idx="1"/>
          </p:cNvCxnSpPr>
          <p:nvPr/>
        </p:nvCxnSpPr>
        <p:spPr>
          <a:xfrm>
            <a:off x="3293640" y="3647880"/>
            <a:ext cx="10407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523800" y="1495440"/>
            <a:ext cx="456480" cy="990360"/>
            <a:chOff x="523800" y="1495440"/>
            <a:chExt cx="456480" cy="990360"/>
          </a:xfrm>
        </p:grpSpPr>
        <p:sp>
          <p:nvSpPr>
            <p:cNvPr id="104" name=""/>
            <p:cNvSpPr/>
            <p:nvPr/>
          </p:nvSpPr>
          <p:spPr>
            <a:xfrm flipH="1" flipV="1">
              <a:off x="523800" y="149544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52040" y="149544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2040" y="1495440"/>
              <a:ext cx="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81440" y="4581360"/>
            <a:ext cx="9144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95" idx="2"/>
          </p:cNvCxnSpPr>
          <p:nvPr/>
        </p:nvCxnSpPr>
        <p:spPr>
          <a:xfrm flipV="1">
            <a:off x="5138640" y="4304880"/>
            <a:ext cx="576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6" idx="0"/>
            <a:endCxn id="96" idx="2"/>
          </p:cNvCxnSpPr>
          <p:nvPr/>
        </p:nvCxnSpPr>
        <p:spPr>
          <a:xfrm>
            <a:off x="752040" y="2495160"/>
            <a:ext cx="38196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6" idx="4"/>
            <a:endCxn id="94" idx="1"/>
          </p:cNvCxnSpPr>
          <p:nvPr/>
        </p:nvCxnSpPr>
        <p:spPr>
          <a:xfrm flipH="1" rot="16200000">
            <a:off x="1352520" y="2876400"/>
            <a:ext cx="867600" cy="676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6" idx="0"/>
            <a:endCxn id="92" idx="1"/>
          </p:cNvCxnSpPr>
          <p:nvPr/>
        </p:nvCxnSpPr>
        <p:spPr>
          <a:xfrm flipH="1" flipV="1" rot="5400000">
            <a:off x="1247400" y="1580400"/>
            <a:ext cx="848520" cy="448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3" idx="3"/>
            <a:endCxn id="94" idx="2"/>
          </p:cNvCxnSpPr>
          <p:nvPr/>
        </p:nvCxnSpPr>
        <p:spPr>
          <a:xfrm flipV="1">
            <a:off x="2600280" y="3998160"/>
            <a:ext cx="110160" cy="491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3" idx="3"/>
            <a:endCxn id="99" idx="1"/>
          </p:cNvCxnSpPr>
          <p:nvPr/>
        </p:nvCxnSpPr>
        <p:spPr>
          <a:xfrm>
            <a:off x="5952600" y="1409760"/>
            <a:ext cx="591120" cy="1086480"/>
          </a:xfrm>
          <a:prstGeom prst="bentConnector3">
            <a:avLst>
              <a:gd name="adj1" fmla="val 4996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5" name=""/>
          <p:cNvGrpSpPr/>
          <p:nvPr/>
        </p:nvGrpSpPr>
        <p:grpSpPr>
          <a:xfrm>
            <a:off x="7772040" y="3249360"/>
            <a:ext cx="539640" cy="225360"/>
            <a:chOff x="7772040" y="3249360"/>
            <a:chExt cx="539640" cy="225360"/>
          </a:xfrm>
        </p:grpSpPr>
        <p:sp>
          <p:nvSpPr>
            <p:cNvPr id="116" name=""/>
            <p:cNvSpPr/>
            <p:nvPr/>
          </p:nvSpPr>
          <p:spPr>
            <a:xfrm flipH="1" flipV="1">
              <a:off x="7772040" y="3471840"/>
              <a:ext cx="5396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926480" y="3321720"/>
              <a:ext cx="23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779600" y="3319560"/>
              <a:ext cx="153000" cy="15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5440" y="3321360"/>
              <a:ext cx="151560" cy="15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891560" y="3366360"/>
              <a:ext cx="304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040240" y="3249360"/>
              <a:ext cx="7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2" name=""/>
          <p:cNvCxnSpPr>
            <a:stCxn id="100" idx="2"/>
          </p:cNvCxnSpPr>
          <p:nvPr/>
        </p:nvCxnSpPr>
        <p:spPr>
          <a:xfrm>
            <a:off x="8039160" y="2847960"/>
            <a:ext cx="2160" cy="488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105520" y="790560"/>
            <a:ext cx="831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99088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24640" y="225756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VM-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16286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143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419112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Weg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mpulsg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336920"/>
            <a:ext cx="8384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ulste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98" idx="6"/>
            <a:endCxn id="113" idx="1"/>
          </p:cNvCxnSpPr>
          <p:nvPr/>
        </p:nvCxnSpPr>
        <p:spPr>
          <a:xfrm flipV="1">
            <a:off x="1533600" y="4488840"/>
            <a:ext cx="21024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048120" y="1133640"/>
            <a:ext cx="99036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ic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92" idx="3"/>
            <a:endCxn id="131" idx="1"/>
          </p:cNvCxnSpPr>
          <p:nvPr/>
        </p:nvCxnSpPr>
        <p:spPr>
          <a:xfrm>
            <a:off x="2752560" y="1380600"/>
            <a:ext cx="286560" cy="19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2971800" y="2181240"/>
            <a:ext cx="1150920" cy="6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1" idx="2"/>
            <a:endCxn id="133" idx="0"/>
          </p:cNvCxnSpPr>
          <p:nvPr/>
        </p:nvCxnSpPr>
        <p:spPr>
          <a:xfrm flipH="1" rot="16200000">
            <a:off x="3297240" y="1921680"/>
            <a:ext cx="496080" cy="5400"/>
          </a:xfrm>
          <a:prstGeom prst="bentConnector3">
            <a:avLst>
              <a:gd name="adj1" fmla="val 499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93" idx="1"/>
            <a:endCxn id="131" idx="3"/>
          </p:cNvCxnSpPr>
          <p:nvPr/>
        </p:nvCxnSpPr>
        <p:spPr>
          <a:xfrm flipH="1" flipV="1">
            <a:off x="4047840" y="1399320"/>
            <a:ext cx="28656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2514600" y="5486400"/>
            <a:ext cx="42670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fbau Messbus 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1752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4240" y="250524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,6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104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90680" y="10954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62120" y="41241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. 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99" idx="3"/>
            <a:endCxn id="100" idx="1"/>
          </p:cNvCxnSpPr>
          <p:nvPr/>
        </p:nvCxnSpPr>
        <p:spPr>
          <a:xfrm>
            <a:off x="7095960" y="2495160"/>
            <a:ext cx="3625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582360" y="3352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95" idx="1"/>
            <a:endCxn id="133" idx="2"/>
          </p:cNvCxnSpPr>
          <p:nvPr/>
        </p:nvCxnSpPr>
        <p:spPr>
          <a:xfrm rot="10800000">
            <a:off x="3547440" y="2874240"/>
            <a:ext cx="786600" cy="774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0640" y="609480"/>
            <a:ext cx="1150920" cy="6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238480"/>
            <a:ext cx="60948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385560" y="2809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endCxn id="146" idx="2"/>
          </p:cNvCxnSpPr>
          <p:nvPr/>
        </p:nvCxnSpPr>
        <p:spPr>
          <a:xfrm>
            <a:off x="1666440" y="2495160"/>
            <a:ext cx="38196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66960" y="4200480"/>
            <a:ext cx="99072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RM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410080"/>
            <a:ext cx="38862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bau Schutzabstandsmessungen Labor DRM vs 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250524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3800" y="2162160"/>
            <a:ext cx="1150920" cy="6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43280" y="3352680"/>
            <a:ext cx="8380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6" idx="0"/>
            <a:endCxn id="145" idx="2"/>
          </p:cNvCxnSpPr>
          <p:nvPr/>
        </p:nvCxnSpPr>
        <p:spPr>
          <a:xfrm flipH="1" flipV="1" rot="5400000">
            <a:off x="1901520" y="1762920"/>
            <a:ext cx="926280" cy="5400"/>
          </a:xfrm>
          <a:prstGeom prst="bentConnector3">
            <a:avLst>
              <a:gd name="adj1" fmla="val 498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4"/>
            <a:endCxn id="154" idx="0"/>
          </p:cNvCxnSpPr>
          <p:nvPr/>
        </p:nvCxnSpPr>
        <p:spPr>
          <a:xfrm flipV="1" rot="10800000">
            <a:off x="2361600" y="2781000"/>
            <a:ext cx="1080" cy="562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2"/>
            <a:endCxn id="150" idx="0"/>
          </p:cNvCxnSpPr>
          <p:nvPr/>
        </p:nvCxnSpPr>
        <p:spPr>
          <a:xfrm flipV="1" rot="10800000">
            <a:off x="2361600" y="3895200"/>
            <a:ext cx="1080" cy="296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364000" y="2251080"/>
            <a:ext cx="7020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46800" y="2098800"/>
            <a:ext cx="1600200" cy="838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Opti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8500 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37240" y="3438360"/>
            <a:ext cx="121932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75400" y="1371600"/>
            <a:ext cx="11430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DS DMC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8" idx="3"/>
            <a:endCxn id="159" idx="1"/>
          </p:cNvCxnSpPr>
          <p:nvPr/>
        </p:nvCxnSpPr>
        <p:spPr>
          <a:xfrm>
            <a:off x="6075360" y="2517480"/>
            <a:ext cx="26280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3" name=""/>
          <p:cNvCxnSpPr>
            <a:stCxn id="159" idx="2"/>
            <a:endCxn id="160" idx="0"/>
          </p:cNvCxnSpPr>
          <p:nvPr/>
        </p:nvCxnSpPr>
        <p:spPr>
          <a:xfrm flipV="1" rot="10800000">
            <a:off x="7146360" y="2945880"/>
            <a:ext cx="1080" cy="4834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4" name=""/>
          <p:cNvCxnSpPr>
            <a:stCxn id="161" idx="3"/>
            <a:endCxn id="159" idx="3"/>
          </p:cNvCxnSpPr>
          <p:nvPr/>
        </p:nvCxnSpPr>
        <p:spPr>
          <a:xfrm>
            <a:off x="7727760" y="1561680"/>
            <a:ext cx="229320" cy="956520"/>
          </a:xfrm>
          <a:prstGeom prst="bentConnector3">
            <a:avLst>
              <a:gd name="adj1" fmla="val 1957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4167000" y="2320200"/>
            <a:ext cx="8100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203640" y="1917360"/>
            <a:ext cx="57636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42800" y="2175840"/>
            <a:ext cx="6897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r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8" idx="1"/>
            <a:endCxn id="165" idx="3"/>
          </p:cNvCxnSpPr>
          <p:nvPr/>
        </p:nvCxnSpPr>
        <p:spPr>
          <a:xfrm flipH="1" flipV="1">
            <a:off x="4997160" y="2504520"/>
            <a:ext cx="357840" cy="1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1"/>
            <a:endCxn id="167" idx="3"/>
          </p:cNvCxnSpPr>
          <p:nvPr/>
        </p:nvCxnSpPr>
        <p:spPr>
          <a:xfrm flipH="1" flipV="1">
            <a:off x="3852360" y="2496240"/>
            <a:ext cx="294480" cy="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7" idx="1"/>
            <a:endCxn id="146" idx="6"/>
          </p:cNvCxnSpPr>
          <p:nvPr/>
        </p:nvCxnSpPr>
        <p:spPr>
          <a:xfrm flipH="1">
            <a:off x="2675880" y="2496600"/>
            <a:ext cx="446760" cy="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580000" y="1808280"/>
            <a:ext cx="1150920" cy="68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589120"/>
            <a:ext cx="99072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RM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562720"/>
            <a:ext cx="38862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bau Schutzabstandsmessungen Labor DRM vs D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914400"/>
            <a:ext cx="1150920" cy="6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590920"/>
            <a:ext cx="83808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666880" y="1752480"/>
            <a:ext cx="990720" cy="533520"/>
            <a:chOff x="2666880" y="1752480"/>
            <a:chExt cx="990720" cy="533520"/>
          </a:xfrm>
        </p:grpSpPr>
        <p:sp>
          <p:nvSpPr>
            <p:cNvPr id="178" name=""/>
            <p:cNvSpPr/>
            <p:nvPr/>
          </p:nvSpPr>
          <p:spPr>
            <a:xfrm>
              <a:off x="2666880" y="1752480"/>
              <a:ext cx="99072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2133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19051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971800" y="1752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2" name=""/>
          <p:cNvCxnSpPr>
            <a:stCxn id="175" idx="3"/>
            <a:endCxn id="181" idx="0"/>
          </p:cNvCxnSpPr>
          <p:nvPr/>
        </p:nvCxnSpPr>
        <p:spPr>
          <a:xfrm>
            <a:off x="2151000" y="1257120"/>
            <a:ext cx="821520" cy="486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0"/>
            <a:endCxn id="176" idx="0"/>
          </p:cNvCxnSpPr>
          <p:nvPr/>
        </p:nvCxnSpPr>
        <p:spPr>
          <a:xfrm rot="5400000">
            <a:off x="1884960" y="1800000"/>
            <a:ext cx="457920" cy="1105560"/>
          </a:xfrm>
          <a:prstGeom prst="bentConnector3">
            <a:avLst>
              <a:gd name="adj1" fmla="val 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6" idx="3"/>
            <a:endCxn id="173" idx="1"/>
          </p:cNvCxnSpPr>
          <p:nvPr/>
        </p:nvCxnSpPr>
        <p:spPr>
          <a:xfrm flipV="1">
            <a:off x="1990440" y="2855160"/>
            <a:ext cx="484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flipV="1">
            <a:off x="4227480" y="1569600"/>
            <a:ext cx="57636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66640" y="1828080"/>
            <a:ext cx="6897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r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79" idx="1"/>
            <a:endCxn id="186" idx="1"/>
          </p:cNvCxnSpPr>
          <p:nvPr/>
        </p:nvCxnSpPr>
        <p:spPr>
          <a:xfrm>
            <a:off x="3657600" y="2143080"/>
            <a:ext cx="489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8" name=""/>
          <p:cNvCxnSpPr>
            <a:stCxn id="171" idx="1"/>
            <a:endCxn id="186" idx="3"/>
          </p:cNvCxnSpPr>
          <p:nvPr/>
        </p:nvCxnSpPr>
        <p:spPr>
          <a:xfrm flipH="1" flipV="1">
            <a:off x="4876200" y="2149200"/>
            <a:ext cx="694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228600"/>
            <a:ext cx="8534520" cy="480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71720" y="1181160"/>
            <a:ext cx="900000" cy="61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n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457200"/>
            <a:ext cx="16002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amp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85840" y="2971800"/>
            <a:ext cx="11430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647800"/>
            <a:ext cx="16002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AD-Erfas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1"/>
            <a:endCxn id="189" idx="1"/>
          </p:cNvCxnSpPr>
          <p:nvPr/>
        </p:nvCxnSpPr>
        <p:spPr>
          <a:xfrm>
            <a:off x="371160" y="2628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4267080" y="762120"/>
            <a:ext cx="900360" cy="61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23800" y="1371600"/>
            <a:ext cx="456480" cy="990360"/>
            <a:chOff x="523800" y="1371600"/>
            <a:chExt cx="456480" cy="990360"/>
          </a:xfrm>
        </p:grpSpPr>
        <p:sp>
          <p:nvSpPr>
            <p:cNvPr id="197" name=""/>
            <p:cNvSpPr/>
            <p:nvPr/>
          </p:nvSpPr>
          <p:spPr>
            <a:xfrm flipH="1" flipV="1">
              <a:off x="523800" y="137160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52040" y="137160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2040" y="1371600"/>
              <a:ext cx="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85800" y="4038480"/>
            <a:ext cx="9144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endCxn id="192" idx="1"/>
          </p:cNvCxnSpPr>
          <p:nvPr/>
        </p:nvCxnSpPr>
        <p:spPr>
          <a:xfrm flipH="1" rot="16200000">
            <a:off x="1499040" y="2738160"/>
            <a:ext cx="667800" cy="486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endCxn id="190" idx="1"/>
          </p:cNvCxnSpPr>
          <p:nvPr/>
        </p:nvCxnSpPr>
        <p:spPr>
          <a:xfrm flipH="1" flipV="1" rot="5400000">
            <a:off x="1472040" y="1605240"/>
            <a:ext cx="608760" cy="371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439040" y="2104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457200"/>
            <a:ext cx="838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7480" y="2647800"/>
            <a:ext cx="838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5715000"/>
            <a:ext cx="42674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bau Messbus Bne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5440" y="1219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00440" y="1200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82880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,6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6668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otierbarer Antennen-m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1676520"/>
            <a:ext cx="91440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ic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52960" y="2952720"/>
            <a:ext cx="1150920" cy="6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191" idx="2"/>
            <a:endCxn id="193" idx="0"/>
          </p:cNvCxnSpPr>
          <p:nvPr/>
        </p:nvCxnSpPr>
        <p:spPr>
          <a:xfrm flipV="1" rot="10800000">
            <a:off x="7504920" y="1685520"/>
            <a:ext cx="1080" cy="9532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752400" y="23623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00080" y="2104920"/>
            <a:ext cx="628560" cy="533520"/>
            <a:chOff x="1000080" y="2104920"/>
            <a:chExt cx="628560" cy="533520"/>
          </a:xfrm>
        </p:grpSpPr>
        <p:sp>
          <p:nvSpPr>
            <p:cNvPr id="217" name=""/>
            <p:cNvSpPr/>
            <p:nvPr/>
          </p:nvSpPr>
          <p:spPr>
            <a:xfrm>
              <a:off x="1000080" y="2324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52680" y="2104920"/>
              <a:ext cx="7596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2680" y="2562120"/>
              <a:ext cx="7596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6680" y="236232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71600" y="22384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066680" y="213336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57640" y="1228680"/>
            <a:ext cx="628560" cy="533520"/>
            <a:chOff x="3257640" y="1228680"/>
            <a:chExt cx="628560" cy="533520"/>
          </a:xfrm>
        </p:grpSpPr>
        <p:sp>
          <p:nvSpPr>
            <p:cNvPr id="224" name=""/>
            <p:cNvSpPr/>
            <p:nvPr/>
          </p:nvSpPr>
          <p:spPr>
            <a:xfrm>
              <a:off x="3257640" y="1447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10240" y="1228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10240" y="1685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24240" y="148608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29160" y="1362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324240" y="125712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876400" y="149544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9" idx="0"/>
            <a:endCxn id="195" idx="1"/>
          </p:cNvCxnSpPr>
          <p:nvPr/>
        </p:nvCxnSpPr>
        <p:spPr>
          <a:xfrm flipH="1" flipV="1" rot="5400000">
            <a:off x="3966840" y="956880"/>
            <a:ext cx="180000" cy="402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6" idx="4"/>
            <a:endCxn id="212" idx="1"/>
          </p:cNvCxnSpPr>
          <p:nvPr/>
        </p:nvCxnSpPr>
        <p:spPr>
          <a:xfrm flipH="1" rot="16200000">
            <a:off x="3948120" y="1671120"/>
            <a:ext cx="210240" cy="410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195" idx="3"/>
            <a:endCxn id="191" idx="1"/>
          </p:cNvCxnSpPr>
          <p:nvPr/>
        </p:nvCxnSpPr>
        <p:spPr>
          <a:xfrm flipV="1">
            <a:off x="5176800" y="1065960"/>
            <a:ext cx="1519920" cy="2520"/>
          </a:xfrm>
          <a:prstGeom prst="bentConnector3">
            <a:avLst>
              <a:gd name="adj1" fmla="val 4994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2" idx="2"/>
            <a:endCxn id="213" idx="0"/>
          </p:cNvCxnSpPr>
          <p:nvPr/>
        </p:nvCxnSpPr>
        <p:spPr>
          <a:xfrm flipH="1" rot="16200000">
            <a:off x="4402800" y="2616480"/>
            <a:ext cx="648360" cy="57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13" idx="3"/>
            <a:endCxn id="193" idx="1"/>
          </p:cNvCxnSpPr>
          <p:nvPr/>
        </p:nvCxnSpPr>
        <p:spPr>
          <a:xfrm>
            <a:off x="5312880" y="3295440"/>
            <a:ext cx="138348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5716080" y="2971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438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925720" y="907920"/>
            <a:ext cx="4366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84240" y="903240"/>
            <a:ext cx="7567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te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8760" y="903240"/>
            <a:ext cx="8038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gg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08440" y="6165720"/>
            <a:ext cx="7722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RM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67880" y="1844640"/>
            <a:ext cx="450360" cy="2764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1880" y="2952720"/>
            <a:ext cx="1380240" cy="4590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entrale Steuerung,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ogdat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92240" y="5373720"/>
            <a:ext cx="8236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DP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plik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68440" y="6165720"/>
            <a:ext cx="8056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82080" y="6165720"/>
            <a:ext cx="4611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27120" y="2492280"/>
            <a:ext cx="1831320" cy="4590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atchdog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erielle Portüberwach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78440" y="4221000"/>
            <a:ext cx="678960" cy="4590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MEA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99800" y="3429000"/>
            <a:ext cx="8010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ser r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00600" y="4305240"/>
            <a:ext cx="8848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ser r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60880" y="4221000"/>
            <a:ext cx="822240" cy="6415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dec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52960" y="2060640"/>
            <a:ext cx="1559880" cy="6415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PIB-Flußsteuerung,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ämpfungseinstellung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eitstem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37600" y="4221000"/>
            <a:ext cx="720360" cy="4590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CI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38" idx="2"/>
            <a:endCxn id="252" idx="0"/>
          </p:cNvCxnSpPr>
          <p:nvPr/>
        </p:nvCxnSpPr>
        <p:spPr>
          <a:xfrm flipH="1">
            <a:off x="3133080" y="1211400"/>
            <a:ext cx="11880" cy="84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39" idx="1"/>
            <a:endCxn id="238" idx="3"/>
          </p:cNvCxnSpPr>
          <p:nvPr/>
        </p:nvCxnSpPr>
        <p:spPr>
          <a:xfrm flipH="1">
            <a:off x="3380760" y="1050480"/>
            <a:ext cx="11818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0" idx="1"/>
            <a:endCxn id="239" idx="3"/>
          </p:cNvCxnSpPr>
          <p:nvPr/>
        </p:nvCxnSpPr>
        <p:spPr>
          <a:xfrm flipH="1">
            <a:off x="5362200" y="1050480"/>
            <a:ext cx="713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1" idx="0"/>
            <a:endCxn id="244" idx="2"/>
          </p:cNvCxnSpPr>
          <p:nvPr/>
        </p:nvCxnSpPr>
        <p:spPr>
          <a:xfrm flipV="1">
            <a:off x="2395080" y="5858640"/>
            <a:ext cx="10440" cy="29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53" idx="2"/>
          </p:cNvCxnSpPr>
          <p:nvPr/>
        </p:nvCxnSpPr>
        <p:spPr>
          <a:xfrm flipH="1" flipV="1">
            <a:off x="2398320" y="4706280"/>
            <a:ext cx="7200" cy="65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3" idx="0"/>
            <a:endCxn id="249" idx="2"/>
          </p:cNvCxnSpPr>
          <p:nvPr/>
        </p:nvCxnSpPr>
        <p:spPr>
          <a:xfrm flipV="1">
            <a:off x="2398320" y="3731760"/>
            <a:ext cx="2520" cy="48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0" idx="1"/>
          </p:cNvCxnSpPr>
          <p:nvPr/>
        </p:nvCxnSpPr>
        <p:spPr>
          <a:xfrm flipV="1">
            <a:off x="2781000" y="4452480"/>
            <a:ext cx="19764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/>
          <p:nvPr/>
        </p:nvCxnSpPr>
        <p:spPr>
          <a:xfrm flipV="1" rot="16200000">
            <a:off x="5700240" y="5250600"/>
            <a:ext cx="1450080" cy="396000"/>
          </a:xfrm>
          <a:prstGeom prst="bentConnector3">
            <a:avLst>
              <a:gd name="adj1" fmla="val 7951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46" idx="0"/>
            <a:endCxn id="247" idx="2"/>
          </p:cNvCxnSpPr>
          <p:nvPr/>
        </p:nvCxnSpPr>
        <p:spPr>
          <a:xfrm flipH="1" flipV="1" rot="5400000">
            <a:off x="5189040" y="4401720"/>
            <a:ext cx="3178800" cy="330840"/>
          </a:xfrm>
          <a:prstGeom prst="bentConnector3">
            <a:avLst>
              <a:gd name="adj1" fmla="val 4999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8" idx="0"/>
            <a:endCxn id="243" idx="3"/>
          </p:cNvCxnSpPr>
          <p:nvPr/>
        </p:nvCxnSpPr>
        <p:spPr>
          <a:xfrm flipV="1" rot="16200000">
            <a:off x="5241240" y="3234600"/>
            <a:ext cx="1021320" cy="932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45" idx="0"/>
            <a:endCxn id="251" idx="2"/>
          </p:cNvCxnSpPr>
          <p:nvPr/>
        </p:nvCxnSpPr>
        <p:spPr>
          <a:xfrm flipV="1">
            <a:off x="4571640" y="4888800"/>
            <a:ext cx="1080" cy="1267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44" idx="3"/>
            <a:endCxn id="245" idx="1"/>
          </p:cNvCxnSpPr>
          <p:nvPr/>
        </p:nvCxnSpPr>
        <p:spPr>
          <a:xfrm>
            <a:off x="2838240" y="5611320"/>
            <a:ext cx="1308600" cy="702360"/>
          </a:xfrm>
          <a:prstGeom prst="bentConnector3">
            <a:avLst>
              <a:gd name="adj1" fmla="val 4986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49" idx="3"/>
            <a:endCxn id="243" idx="1"/>
          </p:cNvCxnSpPr>
          <p:nvPr/>
        </p:nvCxnSpPr>
        <p:spPr>
          <a:xfrm flipV="1">
            <a:off x="2822400" y="3190320"/>
            <a:ext cx="1036080" cy="386280"/>
          </a:xfrm>
          <a:prstGeom prst="bentConnector3">
            <a:avLst>
              <a:gd name="adj1" fmla="val 4998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0" idx="0"/>
            <a:endCxn id="243" idx="1"/>
          </p:cNvCxnSpPr>
          <p:nvPr/>
        </p:nvCxnSpPr>
        <p:spPr>
          <a:xfrm flipH="1" flipV="1" rot="5400000">
            <a:off x="3097800" y="3535560"/>
            <a:ext cx="1105560" cy="415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1" idx="0"/>
            <a:endCxn id="243" idx="2"/>
          </p:cNvCxnSpPr>
          <p:nvPr/>
        </p:nvCxnSpPr>
        <p:spPr>
          <a:xfrm flipV="1">
            <a:off x="4571640" y="3438000"/>
            <a:ext cx="1080" cy="77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2" idx="3"/>
            <a:endCxn id="243" idx="0"/>
          </p:cNvCxnSpPr>
          <p:nvPr/>
        </p:nvCxnSpPr>
        <p:spPr>
          <a:xfrm>
            <a:off x="3935520" y="2390400"/>
            <a:ext cx="637200" cy="553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43" idx="0"/>
            <a:endCxn id="242" idx="1"/>
          </p:cNvCxnSpPr>
          <p:nvPr/>
        </p:nvCxnSpPr>
        <p:spPr>
          <a:xfrm flipH="1" flipV="1" rot="5400000">
            <a:off x="5783400" y="779760"/>
            <a:ext cx="951840" cy="3375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1835280" y="1628640"/>
            <a:ext cx="6913440" cy="3456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08240" y="4797360"/>
            <a:ext cx="11361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progra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32720" y="6526080"/>
            <a:ext cx="503280" cy="1429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97840" y="6259680"/>
            <a:ext cx="128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parater,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grammintern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5951520"/>
            <a:ext cx="503280" cy="1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64360" y="5516640"/>
            <a:ext cx="13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genständige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ät /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ftware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mpon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6000" y="5373720"/>
            <a:ext cx="1908000" cy="1484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6520" y="531504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gen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6000" y="6308640"/>
            <a:ext cx="19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5529240"/>
            <a:ext cx="19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19760" y="1365120"/>
            <a:ext cx="49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PI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37880" y="5110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74240" y="539748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85680" y="5326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22200" y="5527800"/>
            <a:ext cx="929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SB: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Virtueller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rieller 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9:34Z</dcterms:created>
  <dc:creator>Dr. Andreas Steil</dc:creator>
  <dc:description/>
  <dc:language>en-US</dc:language>
  <cp:lastModifiedBy>Felix Schad</cp:lastModifiedBy>
  <dcterms:modified xsi:type="dcterms:W3CDTF">2009-10-16T12:07:47Z</dcterms:modified>
  <cp:revision>55</cp:revision>
  <dc:subject/>
  <dc:title>PowerPoint-Präsentation</dc:title>
</cp:coreProperties>
</file>