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A3A6-DAE3-475D-8072-1EE147B82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9C4C-55C1-4396-A5EA-C4F8490B8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333D-A664-4667-AF85-7AD81AE3F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ABC7-4D22-4E9C-98BE-B6A69E641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4CCB-A89A-41A7-BCF4-6ACA86563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D1E6-CF3D-4638-AE38-5DC979E74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5F5D-CA16-4508-8D11-7EB3CB361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70D0-3A66-43F5-A587-7A738CA79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7D22-A858-401D-97F5-23F94B436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3243-9EA5-410D-83FB-F7739A7B4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58B7-3AD7-4269-BCB9-08FF4C62F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34A0-24DC-4C7B-A3AF-F0BC3EFD6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63BEA-2BF3-4428-B492-8E1D8DF696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62440" y="765000"/>
            <a:ext cx="127512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lS DRM/DRM+-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ntent-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120680" y="1814400"/>
            <a:ext cx="135864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park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OFDM-Modul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91960" y="1814400"/>
            <a:ext cx="87732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&amp;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U200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4572000" y="1779480"/>
            <a:ext cx="936720" cy="534960"/>
            <a:chOff x="4572000" y="1779480"/>
            <a:chExt cx="936720" cy="534960"/>
          </a:xfrm>
        </p:grpSpPr>
        <p:sp>
          <p:nvSpPr>
            <p:cNvPr id="45" name=""/>
            <p:cNvSpPr/>
            <p:nvPr/>
          </p:nvSpPr>
          <p:spPr>
            <a:xfrm>
              <a:off x="4572000" y="1779480"/>
              <a:ext cx="936720" cy="53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903920" y="1929960"/>
              <a:ext cx="272880" cy="234720"/>
            </a:xfrm>
            <a:custGeom>
              <a:avLst/>
              <a:gdLst/>
              <a:ahLst/>
              <a:rect l="l" t="t" r="r" b="b"/>
              <a:pathLst>
                <a:path w="226" h="288">
                  <a:moveTo>
                    <a:pt x="0" y="0"/>
                  </a:moveTo>
                  <a:lnTo>
                    <a:pt x="226" y="149"/>
                  </a:lnTo>
                  <a:lnTo>
                    <a:pt x="1" y="28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6156360" y="1628640"/>
            <a:ext cx="609480" cy="838080"/>
            <a:chOff x="6156360" y="1628640"/>
            <a:chExt cx="609480" cy="838080"/>
          </a:xfrm>
        </p:grpSpPr>
        <p:sp>
          <p:nvSpPr>
            <p:cNvPr id="48" name=""/>
            <p:cNvSpPr/>
            <p:nvPr/>
          </p:nvSpPr>
          <p:spPr>
            <a:xfrm>
              <a:off x="6156360" y="1628640"/>
              <a:ext cx="609480" cy="838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232320" y="1704960"/>
              <a:ext cx="456840" cy="253800"/>
            </a:xfrm>
            <a:custGeom>
              <a:avLst/>
              <a:gdLst/>
              <a:ahLst/>
              <a:rect l="l" t="t" r="r" b="b"/>
              <a:pathLst>
                <a:path w="336" h="224">
                  <a:moveTo>
                    <a:pt x="0" y="112"/>
                  </a:moveTo>
                  <a:cubicBezTo>
                    <a:pt x="28" y="56"/>
                    <a:pt x="56" y="0"/>
                    <a:pt x="96" y="16"/>
                  </a:cubicBezTo>
                  <a:cubicBezTo>
                    <a:pt x="136" y="32"/>
                    <a:pt x="200" y="192"/>
                    <a:pt x="240" y="208"/>
                  </a:cubicBezTo>
                  <a:cubicBezTo>
                    <a:pt x="280" y="224"/>
                    <a:pt x="320" y="128"/>
                    <a:pt x="336" y="11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232320" y="1908000"/>
              <a:ext cx="456840" cy="254160"/>
            </a:xfrm>
            <a:custGeom>
              <a:avLst/>
              <a:gdLst/>
              <a:ahLst/>
              <a:rect l="l" t="t" r="r" b="b"/>
              <a:pathLst>
                <a:path w="336" h="224">
                  <a:moveTo>
                    <a:pt x="0" y="112"/>
                  </a:moveTo>
                  <a:cubicBezTo>
                    <a:pt x="28" y="56"/>
                    <a:pt x="56" y="0"/>
                    <a:pt x="96" y="16"/>
                  </a:cubicBezTo>
                  <a:cubicBezTo>
                    <a:pt x="136" y="32"/>
                    <a:pt x="200" y="192"/>
                    <a:pt x="240" y="208"/>
                  </a:cubicBezTo>
                  <a:cubicBezTo>
                    <a:pt x="280" y="224"/>
                    <a:pt x="320" y="128"/>
                    <a:pt x="336" y="11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232320" y="2111040"/>
              <a:ext cx="456840" cy="254160"/>
            </a:xfrm>
            <a:custGeom>
              <a:avLst/>
              <a:gdLst/>
              <a:ahLst/>
              <a:rect l="l" t="t" r="r" b="b"/>
              <a:pathLst>
                <a:path w="336" h="224">
                  <a:moveTo>
                    <a:pt x="0" y="112"/>
                  </a:moveTo>
                  <a:cubicBezTo>
                    <a:pt x="28" y="56"/>
                    <a:pt x="56" y="0"/>
                    <a:pt x="96" y="16"/>
                  </a:cubicBezTo>
                  <a:cubicBezTo>
                    <a:pt x="136" y="32"/>
                    <a:pt x="200" y="192"/>
                    <a:pt x="240" y="208"/>
                  </a:cubicBezTo>
                  <a:cubicBezTo>
                    <a:pt x="280" y="224"/>
                    <a:pt x="320" y="128"/>
                    <a:pt x="336" y="11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6346440" y="2136240"/>
              <a:ext cx="15228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6410160" y="1755360"/>
              <a:ext cx="15192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7236000" y="1859040"/>
            <a:ext cx="617400" cy="457200"/>
            <a:chOff x="7236000" y="1859040"/>
            <a:chExt cx="617400" cy="457200"/>
          </a:xfrm>
        </p:grpSpPr>
        <p:sp>
          <p:nvSpPr>
            <p:cNvPr id="55" name=""/>
            <p:cNvSpPr/>
            <p:nvPr/>
          </p:nvSpPr>
          <p:spPr>
            <a:xfrm>
              <a:off x="7236000" y="1859040"/>
              <a:ext cx="60948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248600" y="2011320"/>
              <a:ext cx="604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259760" y="2075040"/>
              <a:ext cx="287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553520" y="208764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8172000" y="1197000"/>
            <a:ext cx="304200" cy="838080"/>
            <a:chOff x="8172000" y="1197000"/>
            <a:chExt cx="304200" cy="838080"/>
          </a:xfrm>
        </p:grpSpPr>
        <p:sp>
          <p:nvSpPr>
            <p:cNvPr id="60" name=""/>
            <p:cNvSpPr/>
            <p:nvPr/>
          </p:nvSpPr>
          <p:spPr>
            <a:xfrm flipH="1" flipV="1">
              <a:off x="8172000" y="1197000"/>
              <a:ext cx="15228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8323920" y="1197000"/>
              <a:ext cx="15228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324640" y="1197000"/>
              <a:ext cx="0" cy="838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63" name=""/>
          <p:cNvCxnSpPr>
            <a:stCxn id="41" idx="2"/>
            <a:endCxn id="42" idx="0"/>
          </p:cNvCxnSpPr>
          <p:nvPr/>
        </p:nvCxnSpPr>
        <p:spPr>
          <a:xfrm>
            <a:off x="1800000" y="1224000"/>
            <a:ext cx="360" cy="590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42" idx="3"/>
            <a:endCxn id="43" idx="1"/>
          </p:cNvCxnSpPr>
          <p:nvPr/>
        </p:nvCxnSpPr>
        <p:spPr>
          <a:xfrm>
            <a:off x="2479320" y="2043720"/>
            <a:ext cx="513000" cy="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43" idx="3"/>
            <a:endCxn id="45" idx="1"/>
          </p:cNvCxnSpPr>
          <p:nvPr/>
        </p:nvCxnSpPr>
        <p:spPr>
          <a:xfrm>
            <a:off x="3869280" y="2043720"/>
            <a:ext cx="703080" cy="3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45" idx="3"/>
            <a:endCxn id="48" idx="1"/>
          </p:cNvCxnSpPr>
          <p:nvPr/>
        </p:nvCxnSpPr>
        <p:spPr>
          <a:xfrm>
            <a:off x="5508720" y="2046960"/>
            <a:ext cx="64800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48" idx="3"/>
            <a:endCxn id="55" idx="1"/>
          </p:cNvCxnSpPr>
          <p:nvPr/>
        </p:nvCxnSpPr>
        <p:spPr>
          <a:xfrm>
            <a:off x="6765840" y="2047680"/>
            <a:ext cx="4705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55" idx="3"/>
            <a:endCxn id="62" idx="0"/>
          </p:cNvCxnSpPr>
          <p:nvPr/>
        </p:nvCxnSpPr>
        <p:spPr>
          <a:xfrm flipV="1">
            <a:off x="7845480" y="2034360"/>
            <a:ext cx="479520" cy="1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endCxn id="41" idx="0"/>
          </p:cNvCxnSpPr>
          <p:nvPr/>
        </p:nvCxnSpPr>
        <p:spPr>
          <a:xfrm flipH="1">
            <a:off x="1800000" y="301320"/>
            <a:ext cx="5040" cy="4640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1112760" y="333360"/>
            <a:ext cx="195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llen     (Audio / Dat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759320" y="1341360"/>
            <a:ext cx="129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DI-Datenst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486520" y="200196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/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034160" y="2060640"/>
            <a:ext cx="38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26560" y="2421000"/>
            <a:ext cx="130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stärkerstuf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619280" y="2852640"/>
            <a:ext cx="4105080" cy="1944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826560" y="1222200"/>
            <a:ext cx="304200" cy="838080"/>
            <a:chOff x="826560" y="1222200"/>
            <a:chExt cx="304200" cy="838080"/>
          </a:xfrm>
        </p:grpSpPr>
        <p:sp>
          <p:nvSpPr>
            <p:cNvPr id="77" name=""/>
            <p:cNvSpPr/>
            <p:nvPr/>
          </p:nvSpPr>
          <p:spPr>
            <a:xfrm flipH="1" flipV="1">
              <a:off x="826560" y="1222200"/>
              <a:ext cx="15228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978480" y="1222200"/>
              <a:ext cx="15228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979200" y="1222200"/>
              <a:ext cx="0" cy="838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1720440" y="1735200"/>
            <a:ext cx="104652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-Frontend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tmel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TR42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710160" y="1827360"/>
            <a:ext cx="167436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icrotelcom Perseus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igital Downconve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08720" y="3213000"/>
            <a:ext cx="1677240" cy="100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atemonkey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chtzeit Abtastraten-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konverter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kl. Automatischer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Verstärkungsrege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42120" y="3486240"/>
            <a:ext cx="89532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S DRM+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289240" y="4941720"/>
            <a:ext cx="1881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RM+-Multiplexdaten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(Verarbeitung durch z.B.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udiodekodersoftwa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"/>
          <p:cNvCxnSpPr>
            <a:stCxn id="79" idx="0"/>
            <a:endCxn id="80" idx="1"/>
          </p:cNvCxnSpPr>
          <p:nvPr/>
        </p:nvCxnSpPr>
        <p:spPr>
          <a:xfrm flipV="1">
            <a:off x="979560" y="2060280"/>
            <a:ext cx="737280" cy="10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86" name=""/>
          <p:cNvCxnSpPr>
            <a:stCxn id="79" idx="1"/>
            <a:endCxn id="80" idx="1"/>
          </p:cNvCxnSpPr>
          <p:nvPr/>
        </p:nvCxnSpPr>
        <p:spPr>
          <a:xfrm flipV="1">
            <a:off x="979560" y="2060280"/>
            <a:ext cx="737280" cy="10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0" idx="3"/>
            <a:endCxn id="81" idx="1"/>
          </p:cNvCxnSpPr>
          <p:nvPr/>
        </p:nvCxnSpPr>
        <p:spPr>
          <a:xfrm>
            <a:off x="2771640" y="2060280"/>
            <a:ext cx="9374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" name=""/>
          <p:cNvCxnSpPr>
            <a:stCxn id="81" idx="2"/>
            <a:endCxn id="82" idx="0"/>
          </p:cNvCxnSpPr>
          <p:nvPr/>
        </p:nvCxnSpPr>
        <p:spPr>
          <a:xfrm>
            <a:off x="4547880" y="2293560"/>
            <a:ext cx="1080" cy="9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" name=""/>
          <p:cNvCxnSpPr>
            <a:stCxn id="82" idx="1"/>
            <a:endCxn id="83" idx="3"/>
          </p:cNvCxnSpPr>
          <p:nvPr/>
        </p:nvCxnSpPr>
        <p:spPr>
          <a:xfrm flipH="1" flipV="1">
            <a:off x="2743920" y="3719160"/>
            <a:ext cx="96444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5075640" y="452268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p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"/>
          <p:cNvCxnSpPr>
            <a:stCxn id="83" idx="2"/>
            <a:endCxn id="84" idx="1"/>
          </p:cNvCxnSpPr>
          <p:nvPr/>
        </p:nvCxnSpPr>
        <p:spPr>
          <a:xfrm>
            <a:off x="2290320" y="3952800"/>
            <a:ext cx="2520" cy="1310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2" name=""/>
          <p:cNvSpPr/>
          <p:nvPr/>
        </p:nvSpPr>
        <p:spPr>
          <a:xfrm>
            <a:off x="1017720" y="2060640"/>
            <a:ext cx="38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29400" y="206064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00000" y="2349360"/>
            <a:ext cx="988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/Q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tastwer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6T14:10:36Z</dcterms:created>
  <dc:creator>Felix Schad</dc:creator>
  <dc:description/>
  <dc:language>en-US</dc:language>
  <cp:lastModifiedBy>Felix Schad</cp:lastModifiedBy>
  <dcterms:modified xsi:type="dcterms:W3CDTF">2009-08-26T14:50:08Z</dcterms:modified>
  <cp:revision>12</cp:revision>
  <dc:subject/>
  <dc:title>Folie 1</dc:title>
</cp:coreProperties>
</file>